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445-3CF6-4344-8CAD-EA3552150D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A9BA-437A-4C67-ADD3-6001B52325CF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23D0-F2C4-4EF8-9F19-25254C47A04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BF0-7B72-4C1B-91D7-0FE3A941E56D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2380-E1D9-4987-83BA-19033492250D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2D9-9C0C-4EC5-BF66-F06760B01388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C4EA-CE2E-4CEF-8FD7-E216EABD8A5D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6469-D26E-4124-9FB6-33ACFEDEC4B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EEA0-9875-40DA-9D65-73C2B8EB6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7AEE-91A4-4EAD-ADF7-5D17CACE7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0F99-D030-4456-8B85-1C4D30B9F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CDDD-95B9-460C-B63C-A233C23F8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ABCF-6BD5-421A-8ACA-B98E29394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ABA4-161D-46FE-BB95-C6AB0D4746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448C-027C-42B3-9491-77C1DDDA6A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5D1C-DDDE-470B-833C-E3F05754F2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99B0-5696-4D16-B0B9-D570E54CC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2711-AE37-42E6-8D7F-29C00D5E97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9C61-2655-4E82-B63F-4A668B6FF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EC6C-CD5D-4472-8A34-1C6FB92DF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0097-E265-474D-87B4-AB92F19FF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9504-CA89-4B1C-8431-707CAC209B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445B-2027-4FAC-AFB1-65005492A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FD26-EA37-4C57-B001-34735058C3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A8E2-00C4-423B-80B1-52934186A4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450B-2A2D-499F-B5F8-276DEF34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514FF-E814-4FBC-99DF-FDCB682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1CBAB-4892-4D73-9AB7-726247E2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6DFA2-D7CF-424F-931E-1E4819A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BAB96-C898-4B47-A853-196E9B2F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57CC-52A4-421D-A2C0-B24E5829EE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BE363-44B9-4EA4-889F-96C629A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1048-3555-42BF-AF07-217E710B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EAD4E-BAED-4FDF-A67C-6C33018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984EC-E328-4B7C-8FA5-C6F6A19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255A4-8839-4E3C-A901-126CD954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3F213-E3CF-4CA2-A69C-B9E1FDA2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E6D8D-4812-46F9-8FA0-9940CB50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81F13-6A16-4B01-99E2-9D827B0B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04471-0ABE-4966-964C-FF90520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91A04-A038-4F6C-8EF9-3FA99F4A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C1EE-D208-45C7-A919-D42C4289BB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3E6B7-0AE3-4C93-A151-BCD54B9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88E38-D777-4005-B2E5-9F30D5BE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7BA7D-2012-404A-8F1C-B0479D9A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F5240-B6B8-466D-89B0-7AA5B2F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553C2-CCBC-4FD3-A5E2-9AD9ADB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77D8A-250E-461D-9112-7B53039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6A371-A03E-4C77-BB28-33CA305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54F14-A231-4FF5-983F-DEDE9E47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4C65C-E084-4CD2-9D5D-FE3AB5E3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8B524-1437-41D3-9996-083C2B91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A28C-59F3-4DEE-9908-513CB1E0DE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CE106-3A68-442F-A5B7-472372C1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7760D-DEBC-4B78-B8D0-97223F7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D24B8-2633-4022-BDF2-04542B0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A950A-EBBA-4F63-B10B-9BE69602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54519-828A-4062-AF70-36CAF80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0118A-EB13-44EF-B240-F5E0E0B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A7455-D3A8-439B-A2B1-15E2FFB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FEA16-8F1C-4B01-BDE6-3F019DB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9B80B-DBA5-4E65-B8B3-27F59C29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AEB5A-F4AB-4C1D-934F-B183546B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CFA4-0D95-462F-9D70-E83A8A6458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A5E75-61E7-44A0-9A5C-E16211D3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EC65-E927-4813-817C-C0709D280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4A0B-63B1-4EA1-80BB-7BA69E0F0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2A3B-2B80-48E9-8388-1395F34BA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B05-BBCD-4E41-A9A0-3C27C3713F7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0AF6-7E36-4F38-B058-386A482B3B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53B-9F7B-40FF-8CF2-A909250C05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FA5-140F-4710-AFC6-2F1DE3FBE7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37A6-017A-49D4-8623-2CC93128CC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C5DC-80DB-4C59-8CE2-8403D33BB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没有证件不允许进入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2C32-A012-4C07-9B96-65422C473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58A3A-4F5C-41BD-8B8D-C67A67679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A127E-0A56-44BE-9D89-AEAEC62EE8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9E8B-A5A7-40EA-BCC0-03E5C0A23D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869000"/>
            <a:ext cx="7848360" cy="15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44D11-5A64-4140-976C-009739ADF56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921440" cy="151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力考试必须等听力指令结束后再收答题卡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考生必须听指令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FC9DC-0569-4EDE-9CA8-A1A1DD9F89F4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缺考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ED784-5244-424C-8DF8-287A8CA4A8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0378-AE67-498D-967E-D62D189EE2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4D864-2FC0-4877-B189-25D8E50FF48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A9854-D15E-4FF6-8CB9-A1B45FDA45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B9ADA-5E54-4CE1-B7D4-88234ED88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9C3EA-ECBF-49A5-BF3E-08C6AB1BD5C2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91A62-9AF2-445E-B99A-37DA2AE074F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EC2E-72C2-4F3F-B6A5-0CC33FD01A0C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9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9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61A04-00BC-41FA-97A0-2E1B5B06C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9F24B-5E6B-4BBD-9CC4-5801F8FC73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四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短篇新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3DD8A-E71A-4398-B722-E8E82B4CFD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913680" y="117936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6c0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六级笔试（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CET6</a:t>
            </a: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826920" y="1755720"/>
          <a:ext cx="7705800" cy="3676680"/>
        </p:xfrm>
        <a:graphic>
          <a:graphicData uri="http://schemas.openxmlformats.org/drawingml/2006/table">
            <a:tbl>
              <a:tblPr/>
              <a:tblGrid>
                <a:gridCol w="1079640"/>
                <a:gridCol w="2594160"/>
                <a:gridCol w="1800000"/>
                <a:gridCol w="134460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听力篇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话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报道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讲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择题（单选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A9080-8EF3-4610-BCE6-BE1A264175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0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8412F-4E5E-49C6-AB10-8D872048EB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2EE6F-480B-4DC1-AF7C-9BD0ECE098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C1A26-D0A0-4FE8-AD34-5FA8DA5FE7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379440"/>
            <a:ext cx="7426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2019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39640" y="1197000"/>
          <a:ext cx="7777080" cy="5419800"/>
        </p:xfrm>
        <a:graphic>
          <a:graphicData uri="http://schemas.openxmlformats.org/drawingml/2006/table">
            <a:tbl>
              <a:tblPr/>
              <a:tblGrid>
                <a:gridCol w="720720"/>
                <a:gridCol w="1004760"/>
                <a:gridCol w="866880"/>
                <a:gridCol w="1152720"/>
                <a:gridCol w="1152360"/>
                <a:gridCol w="1079640"/>
                <a:gridCol w="1008000"/>
                <a:gridCol w="79200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134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99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429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0C38B-5549-4695-951A-61D672E7C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19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4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0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6F6BE-E864-4FA1-91BA-CCE938604B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5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1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F9499-7303-4D61-A9F8-4171926AF8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5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51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15F4F-079F-4FD1-BC94-286854219C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54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91E23-ADA9-4F8C-BAC5-C38A0C1221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62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773A9-78BC-4265-A754-6BB62B0710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31919-A43F-4B8B-97DD-C192D2C9DF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6339C-1FA1-4ACD-B043-144A395C89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直接箭头连接符 14"/>
          <p:cNvCxnSpPr>
            <a:stCxn id="474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0" name="直接箭头连接符 16"/>
          <p:cNvCxnSpPr>
            <a:stCxn id="475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81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82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72A01-B789-470B-A6DB-82C77CE174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88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AD13D-1079-4D06-A9B9-6FF2C7A183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6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78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EBE8B-765D-4E44-A25C-3A630083B4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下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周六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西和食堂西门、留和路北口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 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线：翠苑、物美、高教新村等；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古荡线：学院路东门、香樟、府苑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返回：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号线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；  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）号线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8:2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小和山校区领卷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B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区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:B3-1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安吉校区领卷点：</a:t>
            </a:r>
            <a:r>
              <a:rPr b="1" lang="en-US" sz="22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2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0(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安吉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8:20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2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2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(14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)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1FDF-5F76-429A-BAD7-6AD7F381E4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395280" y="1125360"/>
            <a:ext cx="831528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6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B79F7-5996-4971-B73E-B18EDD67FF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C319F-26BB-44D1-A678-CA71601292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四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六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E6AF8-922A-4806-BBDD-02B4129E4E4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5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07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9F2DF-B421-4A7A-95E5-00D0DC2DC5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27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1A8A0-8830-418C-83A6-4A943E42975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0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0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31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001C5-AA48-40C3-A390-9AD06C545B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101A6-8DDC-4DED-A4E7-EB00023465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40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43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6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54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57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60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B80D4-204C-40C4-8F14-13B8579F3E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67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70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73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6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83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6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89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2036D-2D53-4004-9533-7240B5D9260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93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0B68F-45A1-42ED-9573-489A99EC8B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F833-CDCA-4D46-8AD4-7ABF9258B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6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699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70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5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12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5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18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EC6E7-1B68-4108-BE84-24B4DC0ECA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24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2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30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3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40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43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6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2A7F0-19DE-4546-A945-578DEF5EB2E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5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5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5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6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68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71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74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E1AD1-71EA-495F-85D0-0431A43E120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80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82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5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88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91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798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801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804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F389C-97BE-49B0-9846-2849F682702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D54F5-83F0-44A4-9E91-AFE0FAD8BF9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DF072-185B-446E-8F1E-EE65BEC3596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1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（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2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多媒体卡、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清单、监考证、考场号、考生名单、考场记录单、胶水、小刀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9A8D-38AA-4F87-8BEB-AF5A9EF5B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打开多媒体，进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win7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操作系统，打开桌面上的“英语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46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级考试考场板书</a:t>
            </a:r>
            <a:r>
              <a:rPr b="0" lang="en-US" sz="2400" spc="-1" strike="noStrike">
                <a:solidFill>
                  <a:srgbClr val="f92f1f"/>
                </a:solidFill>
                <a:latin typeface="黑体"/>
                <a:ea typeface="黑体"/>
              </a:rPr>
              <a:t>PPT”</a:t>
            </a:r>
            <a:r>
              <a:rPr b="0" lang="zh-CN" sz="2400" spc="-1" strike="noStrike">
                <a:solidFill>
                  <a:srgbClr val="f92f1f"/>
                </a:solidFill>
                <a:latin typeface="黑体"/>
                <a:ea typeface="黑体"/>
              </a:rPr>
              <a:t>，双击桌面上的时钟，点右键前段显示时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C3A8D-5FF9-4896-9D6F-2E2BF7B3D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后收回多媒体卡，放入考务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97B91-58AC-4FB8-B46E-D9030F821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过程与浙江省考试院联网，全程监控，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手机等放入准备好的信封   进行密封）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调出电脑上时钟查看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后，再次检查条形码情况，并填写好答题卡一的相关资料，等待考务人员来清点收取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教育考试院要求：（一定要告知考生）考试全过程考生不得中途离场，如考生因身体不适等情况可陪同到考务办公室，由医务室医生检查治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；考试中途考生擅自离场的，一律按违规处理，成绩作零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308F5-F488-4CBB-950A-808C384D4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9-05-22T00:33:42Z</dcterms:modified>
  <cp:revision>1704</cp:revision>
  <dc:subject/>
  <dc:title>jwc</dc:title>
</cp:coreProperties>
</file>